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0FF-4F2A-46AF-B9FC-0E9E7042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670B-1DE3-47EA-B48A-4E716398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DA9D-6099-4B96-932A-7ECB6BA6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724-54F3-45BB-9515-C63DD3DA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7E89-63A0-423F-965F-B390FA56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896-AB97-4FFE-95F4-30322329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8C5-1847-4CE9-9A45-B774DACC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9825-3007-4A75-97AB-AF0FB866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5CA1-1B07-4579-9B94-8DF0A3CD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6BB5-A308-4F31-821A-DA3F31D5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745-C578-4F1F-ACE1-753DF486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98B-B214-4327-9435-9FDD7128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847B-299A-4898-9D2B-ACB2BD874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thebasketballblogger.com/wp-content/uploads/2009/09/Kobe-vs.-Carmelo.jpg&amp;imgrefurl=http://thebasketballblogger.com/%3Fp%3D1624&amp;h=390&amp;w=594&amp;sz=93&amp;tbnid=RNzxnuE-qoX_-M:&amp;tbnh=89&amp;tbnw=135&amp;prev=/images%3Fq%3Dpic%2Bof%2Bkobe%2Band%2Bcarmelo&amp;usg=__Wn6PV5sSuIIZheqvRNq2vI-n_a4=&amp;ei=1IEOS_KLBo7uMtTszfIM&amp;sa=X&amp;oi=image_result&amp;resnum=2&amp;ct=image&amp;ved=0CA0Q9QEwAQ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plslaker.files.wordpress.com/2009/05/kobe-carmelo-fullj_getty-71797700lb008_denver_nugget_3_48_36_am.jpg&amp;imgrefurl=http://mplslaker.wordpress.com/2009/05/20/lakers-nuggets-game-1-in-one-hour/&amp;h=500&amp;w=640&amp;sz=38&amp;tbnid=9DtEbvpmHJRXpM:&amp;tbnh=107&amp;tbnw=137&amp;prev=/images%3Fq%3Dpic%2Bof%2Bkobe%2Band%2Bcarmelo&amp;hl=en&amp;usg=__Nswzt8M9-GTOTIDeFSfPk77y1bg=&amp;ei=B4UOS-fNLo7uMtTszfIM&amp;sa=X&amp;oi=image_result&amp;resnum=1&amp;ct=image&amp;ved=0CA0Q9QEwAA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4.pictures.gi.zimbio.com/Los%2BAngeles%2BLakers%2Bv%2BDenver%2BNuggets%2BGame%2BFour%2B-x4-3eNQn1Fl.jpg&amp;imgrefurl=http://www.zimbio.com/pictures/toVCEsTMW8s/Los%2BAngeles%2BLakers%2Bv%2BDenver%2BNuggets%2BGame%2BFour/-x4-3eNQn1F/Carmelo%2BAnthony&amp;h=390&amp;w=594&amp;sz=102&amp;tbnid=AdsuwMippsJAcM:&amp;tbnh=89&amp;tbnw=135&amp;prev=/images%3Fq%3Dpic%2Bof%2Bkobe%2Band%2Bcarmelo&amp;hl=en&amp;usg=__JzUoah2gXChnC1mCzMsFWEQJOU8=&amp;ei=B4UOS-fNLo7uMtTszfIM&amp;sa=X&amp;oi=image_result&amp;resnum=4&amp;ct=image&amp;ved=0CBMQ9QEwAw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comps.fotosearch.com/comp/BLD/BLD003/teenage-girl-basketball_~ar061404026.jpg&amp;imgrefurl=http://www.fotosearch.com/BLD003/ar061404026/&amp;h=320&amp;w=300&amp;sz=35&amp;tbnid=FO3pwguL84AEJM:&amp;tbnh=118&amp;tbnw=111&amp;prev=/images%3Fq%3Dpic%2Bof%2B%2Bgirl%2Bbasketball%2Bplayer&amp;hl=en&amp;usg=__cY15VJcqFTm6TcYOPXD3ohPhL9A=&amp;ei=GIgOS96AJY7uMtTszfIM&amp;sa=X&amp;oi=image_result&amp;resnum=4&amp;ct=image&amp;ved=0CBIQ9QEwAw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google.com/images?q=tbn:RNzxnuE-qoX_-M::thebasketballblogger.com/wp-content/uploads/2009/09/Kobe-vs.-Carmelo.jpg&amp;h=94&amp;w=143&amp;usg=__npUC5rqgDTxN5AXjlmW-uF4AqAw=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143000"/>
            <a:ext cx="6375240" cy="4191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BASKET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By Cameron Hart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</a:rPr>
              <a:t>B-Balls a great s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 enemies h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http://www.google.com/images?q=tbn:9DtEbvpmHJRXpM::mplslaker.files.wordpress.com/2009/05/kobe-carmelo-fullj_getty-71797700lb008_denver_nugget_3_48_36_am.jpg&amp;h=94&amp;w=120&amp;usg=__fc2GNX0in14FA6F30ZGVO3gePMw=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971800"/>
            <a:ext cx="3778200" cy="2959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B-Balls fun to play and wat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never gets 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://www.google.com/images?q=tbn:AdsuwMippsJAcM::www4.pictures.gi.zimbio.com/Los%252BAngeles%252BLakers%252Bv%252BDenver%252BNuggets%252BGame%252BFour%252B-x4-3eNQn1Fl.jpg&amp;h=94&amp;w=143&amp;usg=__dv_mRgbt8boqOt-mOR2clSaIjGU=">
            <a:hlinkClick r:id="rId1"/>
          </p:cNvPr>
          <p:cNvPicPr/>
          <p:nvPr/>
        </p:nvPicPr>
        <p:blipFill>
          <a:blip r:embed="rId2"/>
          <a:stretch/>
        </p:blipFill>
        <p:spPr>
          <a:xfrm rot="20718000">
            <a:off x="2665080" y="2277720"/>
            <a:ext cx="4521240" cy="297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f81bd"/>
                </a:solidFill>
                <a:latin typeface="Calibri"/>
              </a:rPr>
              <a:t>Its gre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81bd"/>
                </a:solidFill>
                <a:latin typeface="Calibri"/>
              </a:rPr>
              <a:t>For boys and gir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google.com/images?q=tbn:FO3pwguL84AEJM::comps.fotosearch.com/comp/BLD/BLD003/teenage-girl-basketball_~ar061404026.jpg&amp;h=94&amp;w=88&amp;usg=__mIqO0AvWkbGt9VvGJWmhgT_4x04=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3200400"/>
            <a:ext cx="206856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google.com/images?q=tbn:OQt3Is-JNOS0RM::ricktrotter.files.wordpress.com/2009/06/kryptonate-nate-robinson-green-shoes-nike-foamposite-lite.jpg&amp;h=94&amp;w=132&amp;usg=__hmP4Bcao1ZyiSxV0OJVDfz-tRAk="/>
          <p:cNvPicPr/>
          <p:nvPr/>
        </p:nvPicPr>
        <p:blipFill>
          <a:blip r:embed="rId3"/>
          <a:stretch/>
        </p:blipFill>
        <p:spPr>
          <a:xfrm>
            <a:off x="1143000" y="2819520"/>
            <a:ext cx="3103560" cy="2209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3:22:01Z</dcterms:created>
  <dc:creator>BPS</dc:creator>
  <dc:description/>
  <dc:language>en-US</dc:language>
  <cp:lastModifiedBy>BPS</cp:lastModifiedBy>
  <dcterms:modified xsi:type="dcterms:W3CDTF">2009-11-26T14:05:12Z</dcterms:modified>
  <cp:revision>5</cp:revision>
  <dc:subject/>
  <dc:title>BASKETBALL</dc:title>
</cp:coreProperties>
</file>